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136-72ED-4577-AA1C-CA59CDF3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683-5C0F-4632-9AB2-A328FB3B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B45-8BE0-4FAE-BF8A-556840CB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288-746D-4A44-9AAC-1EF3247F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C15A-03B6-41F0-9218-CE291967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7B9F-05FB-45A6-89E4-0ADB1C7A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9DA6-D82A-4EA7-A4D4-1BC279D4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4083-4C09-4779-B3DB-C099DC99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6C02-A240-40BE-8C46-9C713907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6622-2AFE-4FB7-A98F-E6731930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E883-C904-43E6-B8BB-298058A2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78C-C17A-441B-8927-0F11DEC0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0CAC-9BF8-4E6F-85BF-1CC682AC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990C-CE77-4948-BF14-D91D1A58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7F42-FA38-4751-B868-F8655D9E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1562-3979-4A9D-88C9-5ED111D5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E16A-912F-437D-A16C-9350E348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5AA-7E76-4F8D-B235-FA87CB4D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516-7030-45B2-9023-8484D21F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4DC-3946-4298-9EFB-6876CC71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449-58A0-48F0-8825-2B0676AA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D55-A3B4-434E-81CA-492A158F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864-5005-4567-8F75-6B4A4EDD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A06-6F5E-45E0-971F-7E278C03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23FD-55DE-4B98-87BE-21DDA8164F5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380A-E46D-4449-B1AD-10791704B9B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Go Tell The Good News – Part 1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1, Lesson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s 16:16 – 17: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97-1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Opposition At Thessalonica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7:5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son’s house is stormed in search of Paul and Sil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were not f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son and certain brethren are taken before the city counc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Accusations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7:6-8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and Silas are charged with troublema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ing the world upside d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contrary to the decrees of Caes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essing allegiance to another king, Je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son was charged with allowing them to stay in his h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Jason Released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7:9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release on bond and given an invitation to get out of t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son was forced to guarantee peace and qu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rethren there knew it was not safe for Paul and Silas to st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aul’s 2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Missionary Journe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353960"/>
            <a:ext cx="6629400" cy="5504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781680" y="1752480"/>
            <a:ext cx="2133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Today’s Lesson Paul Is At Point 12 on the Map (Philipp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533520"/>
            <a:ext cx="30492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Opposition At Philippi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6:16-24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ing A Demon-Possessed Gir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irl made money for people by fortunetel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ame of Jesus and His gospel freed the girl, but angered those who used her for prof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l and Silas were arrested, beaten, and imprison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But, they were free within their heart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ile They Were In Jail... 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6:25-27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jailer heard the two men sing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knew they had something special with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ddenly, there was a great earthquake, the doors opened, the chains were loo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jailer gave himself a death sentence when he thought the prisoners esca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Jailer Is Converted 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6:28-34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gave himself a chance at eternal life when he ask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must I do to be saved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heard the gospel, believed it and was baptized with an urgent desi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Compare his actions to the Great Commiss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as a servant of Jesus Christ, he helped Paul and Sil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aul and Silas Are Released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6:35-40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uthorities’ f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have mistreated Roman citiz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ristian’s free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took advantage of physical free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returned to Lydia’s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met with other believers before leaving t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stop: Thessalon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note that Luke stayed beh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t Thessalonic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227240"/>
            <a:ext cx="6781680" cy="5630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934320" y="1676520"/>
            <a:ext cx="1752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y Passed Through Amphipolis (Point 13) and Apollonia (Point 14) and stop in Thessalonica (Point 1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609480"/>
            <a:ext cx="75960" cy="609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533520"/>
            <a:ext cx="7596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457200"/>
            <a:ext cx="15228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685800"/>
            <a:ext cx="22860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t Thessalonica 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7:1-3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preached in the synagog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reasoned with them from scrip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ist had to suff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had missed this point as they contemplated the coming 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ist was also rised from the dead according to their scrip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had missed this point al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urged them to believe that Jesus was the Messi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sults From Preaching The Gospel 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7:4-5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f them belie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esulted in some noteworthy conver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st did not belie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also stirred a mob ri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22:41:31Z</dcterms:created>
  <dc:creator>Gateway Client</dc:creator>
  <dc:description/>
  <dc:language>en-US</dc:language>
  <cp:lastModifiedBy>Frank D Vines</cp:lastModifiedBy>
  <dcterms:modified xsi:type="dcterms:W3CDTF">2007-03-07T19:13:58Z</dcterms:modified>
  <cp:revision>13</cp:revision>
  <dc:subject/>
  <dc:title>Go Tell The Good News –Part 1</dc:title>
</cp:coreProperties>
</file>